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B2AC-26EA-4C94-AD20-985165CBE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3A5C-0890-47EB-8E74-1AC2E850DD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EF5-F0CA-4764-A159-6BA05BE9A8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5A03-4DD4-401E-8816-742BB1D33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 of time such as week and larger units use “i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the day can use “in” ([the] afternoon, [the] morning) or “at” (night)(noon, daybreak, sunset, midnight,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445F-1C44-4761-946C-653F7AB072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:  1. 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1E21-C9B3-4EC0-9BD6-7A2A857FE3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            4. 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. 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514D-D8AD-438A-9899-24A135E00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at  (Note: “at night” is an exception to the rule.  It’s an idiom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702-42E8-471D-89AE-D13E55ED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7AA-B8A1-4527-AB30-8355A811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743-9C42-4B29-8D55-61D5AC11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438-DBC1-4416-AD6B-77E9FEBA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DAF-F137-4D38-B494-53D74950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DF8-9179-4F9E-8EF3-C7F1A33D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59B-7882-45CA-BE9D-56DE112E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94C-92E4-46CD-94C3-587518DA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BA2-22EF-4BA0-8845-7C1E70C7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E5B-A75E-4A2A-87B7-555C04C4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504-CF85-468D-92E9-EF6AA19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EEE-63BE-4FDB-8CEC-74C26277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86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C2D-B5D0-440B-83E7-086408353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143000" y="685800"/>
            <a:ext cx="67816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, On, A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5" descr="C:\Documents and Settings\Kristi DeMersseman\Local Settings\Temporary Internet Files\Content.IE5\TORDJWP3\MCj04326640000[1].png"/>
          <p:cNvPicPr/>
          <p:nvPr/>
        </p:nvPicPr>
        <p:blipFill>
          <a:blip r:embed="rId1"/>
          <a:stretch/>
        </p:blipFill>
        <p:spPr>
          <a:xfrm>
            <a:off x="327672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80880" y="5335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9.  I go to school ___ eight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0880" y="304812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10.  I come home ___ the afternoo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1371600" y="1371600"/>
            <a:ext cx="73915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emembe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2514600" y="1600200"/>
            <a:ext cx="2209680" cy="441972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4724280" y="1523520"/>
            <a:ext cx="1905120" cy="449604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192920" y="1219320"/>
            <a:ext cx="9853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10b0b"/>
                </a:solidFill>
                <a:latin typeface="Times New Roman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b400"/>
                </a:solidFill>
                <a:latin typeface="Times New Roman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a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Times New Roman"/>
              </a:rPr>
              <a:t>In, On, At + Time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Times New Roman"/>
              </a:rPr>
              <a:t> What is correct? In, on, or at?</a:t>
            </a:r>
            <a:endParaRPr b="0" lang="en-US" sz="4000" spc="-1" strike="noStrike">
              <a:solidFill>
                <a:srgbClr val="dfc08d"/>
              </a:solidFill>
              <a:latin typeface="Times New Roman"/>
            </a:endParaRPr>
          </a:p>
        </p:txBody>
      </p:sp>
      <p:pic>
        <p:nvPicPr>
          <p:cNvPr id="51" name="Picture 13" descr="preploc6"/>
          <p:cNvPicPr/>
          <p:nvPr/>
        </p:nvPicPr>
        <p:blipFill>
          <a:blip r:embed="rId1"/>
          <a:stretch/>
        </p:blipFill>
        <p:spPr>
          <a:xfrm>
            <a:off x="3630600" y="-5908680"/>
            <a:ext cx="223848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6 p.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Fri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Janu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Friday, Jan. 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mor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n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eve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midn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no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a few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wo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sum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__________ the week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7"/>
          <p:cNvSpPr/>
          <p:nvPr/>
        </p:nvSpPr>
        <p:spPr>
          <a:xfrm>
            <a:off x="4114800" y="1600200"/>
            <a:ext cx="2209680" cy="441972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V="1">
            <a:off x="6324480" y="1523520"/>
            <a:ext cx="1905120" cy="449604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791320" y="1523880"/>
            <a:ext cx="1676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a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219320" y="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f5f2f"/>
                </a:solidFill>
                <a:uFillTx/>
                <a:latin typeface="Times New Roman"/>
              </a:rPr>
              <a:t>tim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4114800" y="1600200"/>
            <a:ext cx="2209680" cy="441972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6324480" y="1523520"/>
            <a:ext cx="1905120" cy="4496040"/>
          </a:xfrm>
          <a:prstGeom prst="line">
            <a:avLst/>
          </a:prstGeom>
          <a:ln w="57240">
            <a:solidFill>
              <a:srgbClr val="2d2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791320" y="1295280"/>
            <a:ext cx="1676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10b0b"/>
                </a:solidFill>
                <a:latin typeface="Times New Roman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b400"/>
                </a:solidFill>
                <a:latin typeface="Times New Roman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d2015"/>
                </a:solidFill>
                <a:latin typeface="Times New Roman"/>
              </a:rPr>
              <a:t>a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219320" y="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8f5f2f"/>
                </a:solidFill>
                <a:uFillTx/>
                <a:latin typeface="Times New Roman"/>
              </a:rPr>
              <a:t>tim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990720" y="9907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910b0b"/>
                </a:solidFill>
                <a:latin typeface="Times New Roman"/>
              </a:rPr>
              <a:t>month,   year, etc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590920" y="32004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Times New Roman"/>
              </a:rPr>
              <a:t>da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429000" y="44197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hou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Times New Roman"/>
              </a:rPr>
              <a:t>General rules </a:t>
            </a:r>
            <a:br>
              <a:rPr sz="4000"/>
            </a:br>
            <a:r>
              <a:rPr b="0" lang="en-US" sz="4000" spc="-1" strike="noStrike">
                <a:solidFill>
                  <a:srgbClr val="dfc08d"/>
                </a:solidFill>
                <a:latin typeface="Times New Roman"/>
              </a:rPr>
              <a:t>for In, On, At + location</a:t>
            </a:r>
            <a:endParaRPr b="0" lang="en-US" sz="40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1905120"/>
            <a:ext cx="274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 + length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nt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>
            <a:off x="609480" y="16002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0948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0040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>
            <a:off x="3429000" y="13716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>
            <a:off x="6324480" y="13716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3581280" y="16002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358128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617220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641760" y="1844640"/>
            <a:ext cx="245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 + a more specific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14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6400800" y="16002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6324480" y="1523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640080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8991720" y="1371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1"/>
          <p:cNvSpPr/>
          <p:nvPr/>
        </p:nvSpPr>
        <p:spPr>
          <a:xfrm>
            <a:off x="7620120" y="121932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22"/>
          <p:cNvSpPr/>
          <p:nvPr/>
        </p:nvSpPr>
        <p:spPr>
          <a:xfrm>
            <a:off x="7620120" y="1600200"/>
            <a:ext cx="75960" cy="76320"/>
          </a:xfrm>
          <a:prstGeom prst="ellipse">
            <a:avLst/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540480" y="1905120"/>
            <a:ext cx="260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t + most specific point i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ock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33920" y="2971800"/>
            <a:ext cx="2361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2895480" y="38088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Times New Roman"/>
              </a:rPr>
              <a:t>exampl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143000" y="17524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He saw her ___ Ma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029200" y="16765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10b0b"/>
                </a:solidFill>
                <a:latin typeface="Times New Roman"/>
              </a:rPr>
              <a:t>i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763560" y="3429000"/>
            <a:ext cx="790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He saw her ___ Tuesda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144440" y="4876920"/>
            <a:ext cx="705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He saw her ___ 2 p.m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497480" y="33526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Times New Roman"/>
              </a:rPr>
              <a:t>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030280" y="487692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a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2680" y="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Times New Roman"/>
              </a:rPr>
              <a:t>practi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80880" y="1447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buClr>
                <a:srgbClr val="2d2015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Can you come ___   Saturday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0880" y="3733920"/>
            <a:ext cx="91440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2.  Can you come ___ December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0880" y="5335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3.  Can you come __ six o’clock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80880" y="27432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4.  I will go ___ Monda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41911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5.  He was born ___ the 20</a:t>
            </a:r>
            <a:r>
              <a:rPr b="0" lang="en-US" sz="6000" spc="-1" strike="noStrike" baseline="30000">
                <a:solidFill>
                  <a:srgbClr val="2d2015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 centur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80880" y="5335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6.  They go to church ___ Sunday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80880" y="274320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7.  We go to school ___ the morning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502920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d2015"/>
                </a:solidFill>
                <a:latin typeface="Times New Roman"/>
              </a:rPr>
              <a:t>8.  We rest ___ night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7T17:00:50Z</dcterms:created>
  <dc:creator>Madera High School</dc:creator>
  <dc:description/>
  <dc:language>en-US</dc:language>
  <cp:lastModifiedBy>Kristi Reyes</cp:lastModifiedBy>
  <dcterms:modified xsi:type="dcterms:W3CDTF">2008-08-28T15:34:57Z</dcterms:modified>
  <cp:revision>3</cp:revision>
  <dc:subject/>
  <dc:title>PowerPoint Presentation</dc:title>
</cp:coreProperties>
</file>